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D7765-C1EC-475B-AF35-9687FF685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4B6EA-8073-4298-A3E7-70FF91560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981C9-5ECA-4768-ACAC-04837E900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9AC06-F13B-406B-BD05-F6A34165E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0ACA1-7F69-4EFB-ACC8-FE9B27A2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31BE7-3F8B-4D56-87FD-0B1A61ED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31D0-AD5A-479D-B3AF-F5CA50708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2BBB-B7AF-4753-8DDE-CF9D8469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8343-23F1-4AB7-B590-7C4A1ECD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15DA-189A-4D88-A7FA-BB4A2686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262A7-43A1-45A3-B1DE-5895E3E8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6E10-2B79-4B31-A8E1-0C1827AA1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E533-93A8-4BA0-8EFF-350FE3C0D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hrinking Plan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Portfolio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 F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rinking World is a once weekly, year-long unit within the World Geography class to be taught to an 8</a:t>
            </a:r>
            <a:r>
              <a:rPr b="0" lang="en-US" sz="2000" spc="-1" strike="noStrike" baseline="30000">
                <a:solidFill>
                  <a:srgbClr val="000000"/>
                </a:solidFill>
                <a:latin typeface="Arial"/>
              </a:rPr>
              <a:t>th</a:t>
            </a:r>
            <a:r>
              <a:rPr b="0" lang="en-US" sz="2000" spc="-1" strike="noStrike">
                <a:solidFill>
                  <a:srgbClr val="000000"/>
                </a:solidFill>
                <a:latin typeface="Arial"/>
              </a:rPr>
              <a:t> grade class and offered for high school credi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afford students a long term, project based study which will allow f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dividual as well as group researc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reative expre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llaboration on an end produ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 avenue to synthesis, analyze and predict from gathered  in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end product will be  a chance for personal reflection on our world society  as well as each student’s individual  place in our shrinking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are we all the s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Questions</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000000"/>
                </a:solidFill>
                <a:latin typeface="Arial"/>
              </a:rPr>
              <a:t>How are human groups influenced by climate and geograph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are human groups influenced by culture and relig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Question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Arial"/>
              </a:rPr>
              <a:t>How does your chosen area differ from those chosen by your teammat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are the historical influences on your chosen are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ine your chosen area by climate, geography. culture and relig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are your predictions for the future trends of your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hrinking Worl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will help my students develop 21st century skills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the interconnections among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shared responsibility for collaborative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chnology to research, organize, evaluate and communicate in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analyze and synthesize  information in order to solve problems and answer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student needs assessment is to gather information on what the students already know about the climatic, geographic, cultural and religious influences on the world they live 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long group activities and student shares and individual research  will serve as formative assess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order thinking skills will be promoted  by guiding students to use the information which they have amassed throughout the school year to produce an end product  in which they will not only inform but also to elaborate and  predi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52"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ways to incorporate self directed learning into a highly fact oriented curricu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y students use their interest in technology to enhance interest in class mater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my students an opportunity to share a final product as well as complete a state mandated 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my students become responsible members of an ever increasingly global commun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my students think critically by drawing conclusions through research and evaluation rather than peer pressure and hears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s I could find students in other cultures to share our projects with as well as gather information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or helping students go from gatherers of information to synthesizers  of information and  predictors of future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7:42:07Z</dcterms:created>
  <dc:creator>afaust</dc:creator>
  <dc:description/>
  <dc:language>en-US</dc:language>
  <cp:lastModifiedBy>afaust</cp:lastModifiedBy>
  <dcterms:modified xsi:type="dcterms:W3CDTF">2009-04-13T18:50:19Z</dcterms:modified>
  <cp:revision>2</cp:revision>
  <dc:subject/>
  <dc:title>Our Shrinking Planet</dc:title>
</cp:coreProperties>
</file>